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3F1-EE36-402E-9581-BA91CF1C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29D-F575-4F3F-A015-428CC6B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53199-D045-4968-91AA-FB3EC2FD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E7289-2715-41C0-A145-C484C537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68478-49EF-4FC8-9860-271ADF1C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69E2F-FCD5-4344-AE81-B09FE544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96362-EFC5-492C-8535-F80E2426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8A4B9-6552-448C-86C7-92BDFBDF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535BD-CFEF-48DA-B8FF-51E8F4D2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1702F-9FD2-4ACB-B1CE-AACA3954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815DE-EF0A-47B5-AE9E-52658422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88B67-0FCD-4D97-A324-DB27C59A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FEFA-F756-440B-A719-540F7B2A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66D4C-6FA7-4C7C-879D-7E31F539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A2A6D-8A8A-49FF-8810-8164F5C2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27831-7387-46FF-8DF5-FF371487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60803-0152-428E-8D8D-7CFC865C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89EFF-09C8-4A00-831E-05952614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EB9D9-DEEE-43B2-B25B-8408F346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81200-5F59-43DC-B43D-5DB5DB8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72B2D-F765-44D7-AB8F-48FCBD0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F1445-5B9B-4589-B57B-99934773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B3459-5DFB-46D6-804E-EB55DA1E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438-F4E1-4A8F-B558-94A235E2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8C9B0-22F6-4B08-B128-48521CCF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C9E25-C4DF-4E47-BFCC-DCAD7297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75C60-ABD8-4362-BDC3-640609B9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98870-D5AE-4CC3-A26C-8BC7725C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18B22-C12F-4513-B66F-25B280B9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0AFC0-10A4-4CB5-8B6C-69B0C544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D14F3-749F-4A4E-82BC-9B93D720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3DF22-C094-4BBF-9B97-9E49A81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E4AC9-B60D-4AC0-B227-37EE71A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8E141-1107-45B8-AFD1-6C9B60CE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8DA6-154D-4E5B-9C09-37AF2212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C54F0-DCF0-4184-B83F-EDA0513C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AF1B3-5BF7-4A8D-A2BB-B8CBC15C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EC966-35FD-4437-B8F6-2152DD0B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F3402-8C68-4323-BD66-FDB1D06F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46B7D-2E9B-4213-9479-7201FF27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59C3C-A6AD-42A8-9CC7-4C892F7C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7E160-520A-48A0-898D-A4906AC8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1D0A4-7DC4-4E3C-858F-1E1C92F8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2C70A-4CCE-4118-98AC-B2EBEDE2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F07AE-5DF5-4A0D-A763-226B1FD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59B2-8761-4D36-B77B-E1023F41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1CE04-28CE-4267-9BCD-84D99044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0ACC9-1320-4D8D-8C85-3D60AD4A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096BB-E5C6-4C63-AFF4-7ECF501D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66DFF-E445-493F-A0B1-DA9BCFC8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E95C0-348B-428E-86AD-EA07E2E6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48350-6E2C-4E17-B751-F18B1499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397C6-5D00-4F84-B9E0-F142CAD0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8DBE2-3C8C-4BE1-9CDE-CD9E356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40A35-8C97-439C-8DED-5CB61228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A8EEE-493E-472B-9E38-6221C336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3812-99B3-418D-95FD-39F0E01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0862B6-CDB9-477C-8586-83B0FD77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3B576-9DFA-45B3-8402-98166D4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530D2-A7D0-46B2-8853-1E72CF1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B8B92-6F8E-4566-AF41-A7CC53E4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3C5C9-DB10-453E-A974-328C54EA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704F64-69AA-4928-BD2B-D79C78B4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9A3F3-4CDF-4E3B-A59E-D87ECEAA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6748B-46E8-49C8-8DE1-998833D1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9B6E7-8D3E-4C8A-9E22-A8108156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CDBD5-75C4-4CB3-8B72-BF6DC160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9F6A-B1CE-46F2-B0EA-A5C15C93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F4775-8F4D-4631-8931-70A16D0D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13994-6B43-43EC-9425-AC17FC14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7EFF9-DB5B-41B8-A664-878FD263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01F5B-870C-45B5-81BA-A84963D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44130-4445-4C8F-983C-51FE2EC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39A34-1206-498D-8DF5-FF2C4B18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70103-3062-4DB8-B538-9B843B4D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66D17-02D2-41A9-AC0B-8FC8F1BC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949A9-41BD-475D-BDD9-4D667AB6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A7A12-C5FF-45BC-92F1-CAF56F5C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4292-F917-4997-BBCC-E53E2C77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B4E78-F5C8-460C-9BFF-D8E78D73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3627B-D06D-4BDD-86A4-C55AB20D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9CE0A-A9FB-4154-85EF-8026EA68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EFCF8-942B-46E3-9FED-768A4F84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7163C-8FF9-49B9-A39B-7D461301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0D11D-9D7E-4485-9E15-67AC80DE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6D386-1CC7-47CE-97C5-A83E018A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EDC17-189B-4A31-8D9D-3871D41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987C0-76FF-470C-8F69-47DFB7D8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5A8CB-12ED-4D33-B09F-CA5F8658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1FAD-9003-48BC-9985-311E5D0C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FF349-C585-4EAA-8A46-DC0EC746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52375-4A8D-4182-9644-69F1255EF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1E3FD-5691-4B4B-9BD9-601982E7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B21758-B435-4C69-B94F-C58A4A92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BCACB-6AF0-4589-ABAD-0C9FA241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28858-4308-473E-8962-12075B26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B1A92-AED7-49B1-B192-CC944188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7D1A4-7702-4A76-BCFF-D2BD5606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3654F-E5FC-489C-B598-41D1A2E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7AD06-B6B7-4B54-B6F4-D2EF081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DA24-0CF9-4CFA-A754-2A248D4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4A03A-69F6-4C2A-BA30-15485D14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0D396-E074-4644-8178-9C302933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9D2CB-C581-4392-8C44-5DF078FE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A501A-2C87-488D-9110-97F4B6C8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69840-4A8D-479D-AD9A-1A70F136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61559E-A187-4191-A8AE-43A08D6E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4067AA-941C-40AA-9A5D-F3E17032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C0156-24F7-4F77-B593-64D1C1FA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5D45A-4963-4B10-99EF-2FE4211A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20AB1-EB96-4720-B86A-1893E56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FC4-AFED-487A-8C3F-96F51FAF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A7D1-863C-4B16-A086-8069EDF0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8EDD22-C21E-4844-AF34-6B61C4A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C734B-3DBD-4C24-8883-909CD5F0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E268F-146C-4354-96A7-7AE9671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22486-A451-4BDE-9834-A26CDCC3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1EBD1-C7ED-423E-9ADD-A806136D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7147E6-DA05-4AE1-8F5B-9D89590E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5CECC-84F8-4671-BA87-5349C767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6B3F89-7EF6-4325-A9E9-3ED65B62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9ACC7-69B0-4C55-9698-A5D54181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F68940-DF7F-4DE0-8052-26F1D2D3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2203-9AB2-49D6-AD9D-500987AA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9CF45-7C91-4DB5-8EC2-09ADBA6E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4F73D-B35D-4CE5-8611-6EC293C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2249F-E4CD-4850-8CCA-0EB1812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0CE05-8E78-49F9-917B-0150455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E1E79-2D4A-4497-BCF7-ABD485D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26383-0930-46D2-A374-7ADB967E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BC186-8F43-40D2-9923-5D2B3308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7BBF6-6690-4471-909C-0FE6F633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368D9-889D-4025-9877-95F4FAAC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68E56-69CF-427A-BE10-25A2A9AC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D047-7F9C-440F-8087-B85A163D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C54CD-C8F4-40EF-8A79-5EA4EC97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69339-AE64-42FA-9228-171E582F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F81C3-A1B2-4A68-97D3-9FEA8548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C58CC-6A79-4E5D-8752-83B4183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D968B-130A-42C8-B5FB-AC551A4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4F8C76-E795-4452-A4F3-E098DB24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ED552-A9C2-48C0-956C-3D760306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4A062-76D7-4974-8F6B-30C70F89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3B276-57BA-4014-8C29-E06A6EB8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2564A-F3C0-4CE9-A3F3-1A5D73D4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F34A-6E1C-4D31-A617-A60D1918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CDFB5-C419-4DCC-AC36-0FB15274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532BD-275E-4454-BCCC-BA804F48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32A8B-C539-4043-ABE2-AFF84A2D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287AD6-A88D-4EA8-89BF-7A21A79B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F1842-6302-4ED4-ADE5-1D8802BF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E4DA1-EC09-47C7-9260-A40D1CB1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E6B9B-BE60-47CB-8FB1-5FC2F4C1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8E2CA-793A-465A-8181-AA204E4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253CC8-BDB6-44BD-ADA7-D9767AC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30774-CC99-473D-9FE0-5FFF94C7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471D-82E0-4C10-BBBE-F5E3EC24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83942A-63C2-4C99-9A0B-D921B823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267DF-A4A8-4430-BEF9-5C7432CF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C4CA4F-5198-4574-B6CC-19E8BDCE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42C2F-377B-47D5-AD58-E9EEA11B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40CF4-D7F3-4CD0-B745-B3CC90EB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B942EE-857B-404E-BBB7-2D96EC1E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44D87-6358-47D1-8B1C-E2170728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ABAD8-7551-4836-B50A-607BC10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EA600-EEFF-46FF-BD4C-0A919F58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68C74B-D19D-41BE-A70E-699BA09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4A1BC-EF3D-4225-89AC-1C45D902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50EB15-04F1-4CA5-B8A7-E2D5576D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C53888-AE27-456F-A65E-C9607361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A817A-DD8A-4442-8936-A118C3ED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5CEE-B183-4B43-BC6E-C14358F4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D891-5E9D-4267-9F54-DA98958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9769-1F3B-4F9C-B268-45406168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0DC1-34EC-4432-BD54-E84F25A0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86A-8DCA-4E06-99BC-4D18148F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12BC-8D49-4B7C-8C2E-22F8A321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64EC-8D8B-4133-B4F5-603AEF0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8FB0-FA54-4C33-B9DE-EE929528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80B5-5C8B-4927-BEE7-19151E15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A164-3BED-4367-8A69-11EB85C9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E5180-1DFC-44E4-9C38-189C1240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978A-10B6-4EA2-B41D-04FFF779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CB9B-BF0A-42C7-A2D4-0DFA3196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C793-E553-48D8-AED3-E960C511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7A51-A0AB-4C67-AAB5-D112523F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395-AB25-4684-871A-D8B43111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104B-42E8-4E70-A3CF-FCF0152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D446F-C56C-4525-9F6F-E05379F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C3C2-5DDA-4243-8871-1F16F3FF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048D-2CD4-415A-B98A-291DF756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0F32-2637-4DBE-9C71-13EB01D7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7F28B-2588-4C52-973E-E1620B9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8505-0FBE-460A-BAEA-B70F8C80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F4D7-E2A0-4EDB-808B-55A11549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5B6D4-CCB2-4559-A33E-5AE4A4AE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9F173-CA26-47AE-B920-9B746B50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DF9-31B6-40CA-91FC-F451A885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47DA-F733-4CA0-B7BB-4B9EFC8D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428F8-4164-47B7-AD08-45A6DBD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6E184-C298-4C41-BFAE-3207DD72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BE645-EAC3-4ED0-A264-7DAF03B2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A1EC-031F-4396-8ABD-14EB36BC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C4BE0-C3D9-4670-9240-1F314CA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E4BE-C464-41A3-B8C7-4218F52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BCAF1-6CBD-4AF9-B2A4-1F1AB55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E948-F11D-43CC-8710-8E6E1F51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B037C-C769-457C-B8A3-508D2B9B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E00-3C7C-4FB4-BDED-CDD4439C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FA1F5-0A99-428E-B48F-B5CCF1A3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50715-6255-47ED-9752-9A2217F3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02369-4751-48CB-B1EC-41830F84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E3C8F-DB1A-4B3B-BA98-69A0E51E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D3938-180A-4567-BC72-EE85895D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EF089-8EDF-4DE8-B0C8-D23DB587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8CF20-8033-4135-84B3-38C1674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0EAFD-5562-4EA1-9A51-814F5174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475D3-C10E-4AC0-A7EE-C6AE41B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D805C-05EF-40ED-BD9F-256D9FD7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2E0-C9A0-4D8D-90E0-4B78D71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C6FD7-F3F1-48BB-A267-EBFA733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BC5E1-18A3-4B35-8383-78842141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7C2C-BF7A-48E7-8737-9E1BF2D7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395BC-8E4D-476C-9509-B74875B5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83D03-141E-4B7B-8D48-708B940D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2E4AB-5250-445C-856D-DD90C74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A8744-9A0B-49CA-8F56-9E2122F5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758C3-5E7F-4EFE-AED2-558A61CF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EB69-98C7-4E56-9910-7B4DF2A7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ACE46-B706-4D42-9372-E856A611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B50-23F1-4247-B22F-94B0E0E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54790-3805-4068-9A2E-54705CFA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B1F8A-CF2A-4877-A0EE-F299A980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3B459-34DA-4185-B53C-5E7538EE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522EC-7C04-4589-AC7F-AC47DC6B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A0AD1-CF2C-4729-A127-D6D1B06C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EFF29-CD6A-4DAF-8E22-11730BB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6EDF6-E551-4BD5-9F42-99CD057F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FCC08-ADEA-4811-ACF8-B07705A9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B69A2-AB26-4AA9-B0D0-FE23FD32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724C4-B492-441F-8A8D-103ABB47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9FF-2D18-4C26-A94E-BEE24BA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897BD-BA3D-42DF-BAC8-F4A9036C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5A43A-B549-4281-9572-DA05B774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B082C-99FD-4633-8304-74AE6BB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8A0B-CB1F-4F99-9DDC-11EA5420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F3414-09A2-4075-9353-B8808B57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32E8-CCD8-422E-8690-94FDE8B8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DA2DC-6966-4F77-BFD1-C32D4925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41E49-04FC-4AC3-91A5-3B0AE93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EFD48-8CDE-4A3B-B4FD-12E04C5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D65F2-52D0-4EEF-868D-AA12369F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EF33-1E5A-4C32-8AAA-B81335E1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7F21-B1ED-44FA-903C-8E82757F2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0FE1-5F1C-4DEC-8965-B899A48EFE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BDE9-151C-4470-BC7F-F9B6FEFA4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43B9-8293-4F18-9FFC-8475BE4602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2DE-7E14-47E5-9FD7-4F8366FA5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D23F-F8ED-4327-A7EC-CD8F6CC1F5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AD9B-37F8-475C-AEDE-C582654839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DCB3-23B3-4B6F-9542-4377A82FC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D4B1-1F00-48F2-9672-FA9D795AA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960C-9265-49FD-A25B-C324893A14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EB9C-1B52-4C3C-B9AB-9F7DDA53FF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7CDD-FF60-4BA7-A96D-9C882B15E2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038B-ED4A-485D-A1A5-89F67D6811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5BB7-48B9-448B-B165-D7CAD7B5B5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EDF3-4D54-41EA-BB20-596A31B3D8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CE0D-9E74-4B16-8171-A371D2DF0B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D8E-9424-447D-A0C8-3A105E48A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5C32-0EA2-4F5C-A4D4-A4F65D5DFE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2BB0-3B64-4925-91A4-ED90D9709A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2D03-62C5-4ECE-94D9-BF7ACE3D3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E1DF-47CD-492F-9771-58DD5F04F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7A22-4B43-417B-A426-547622CF0F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E239-C1AF-47AF-8B56-1DC56B82A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6D2-96C7-421B-B1DE-4AAEC9D28C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CF59-DE38-4D86-ABC8-8F6FEB03E2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1F7A-B738-4CC0-A122-6C648A9BAB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7B6D-1D0B-41FD-8865-610681A7E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E3B5-27E1-4684-A7CB-28E4828C3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E5CE-84DE-4B9D-9611-D9F63EC429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EAD-9952-4C8C-BDCF-589AD432B5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3CC9-0005-4BC1-B612-CD650B728A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9DA-E00E-445C-8D70-A8803CC313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FCE0-BC83-4C1B-8951-6AF7517228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8CA3-32AC-4CA0-AAAC-60312AD6F3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2FCF-255D-4FFD-A882-A77C33DFAC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52EC-AD64-43CD-868D-B177775769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0E93-E84B-4885-B135-1E5274BD25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0E56-FE87-43ED-8663-851CFD9AD5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9009-033D-4388-8B44-735166A997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333520" y="3038400"/>
            <a:ext cx="44769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41400" y="1419120"/>
            <a:ext cx="9061200" cy="4019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050920" y="278136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48360" y="2781360"/>
            <a:ext cx="93636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7821720" y="2781360"/>
            <a:ext cx="93636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692360" y="342900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500720" y="3429000"/>
            <a:ext cx="93636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7885080" y="3429000"/>
            <a:ext cx="93672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826920" y="51134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2411280" y="51134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3995640" y="5157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5867280" y="5157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752472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2" name="组合 5123"/>
          <p:cNvGrpSpPr/>
          <p:nvPr/>
        </p:nvGrpSpPr>
        <p:grpSpPr>
          <a:xfrm>
            <a:off x="52560" y="1484280"/>
            <a:ext cx="9037440" cy="3751200"/>
            <a:chOff x="52560" y="1484280"/>
            <a:chExt cx="9037440" cy="3751200"/>
          </a:xfrm>
        </p:grpSpPr>
        <p:pic>
          <p:nvPicPr>
            <p:cNvPr id="1043" name="图片 1" descr=""/>
            <p:cNvPicPr/>
            <p:nvPr/>
          </p:nvPicPr>
          <p:blipFill>
            <a:blip r:embed="rId1"/>
            <a:stretch/>
          </p:blipFill>
          <p:spPr>
            <a:xfrm>
              <a:off x="52560" y="1622520"/>
              <a:ext cx="9037440" cy="36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Picture 1" descr=""/>
            <p:cNvPicPr/>
            <p:nvPr/>
          </p:nvPicPr>
          <p:blipFill>
            <a:blip r:embed="rId2"/>
            <a:stretch/>
          </p:blipFill>
          <p:spPr>
            <a:xfrm>
              <a:off x="4572000" y="1484280"/>
              <a:ext cx="360360" cy="32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755640" y="2689200"/>
            <a:ext cx="360360" cy="230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755640" y="3006720"/>
            <a:ext cx="360360" cy="230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755640" y="3348000"/>
            <a:ext cx="360360" cy="23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826920" y="3654360"/>
            <a:ext cx="360360" cy="230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26920" y="3995640"/>
            <a:ext cx="360360" cy="230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755640" y="4292640"/>
            <a:ext cx="360360" cy="230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755640" y="4591080"/>
            <a:ext cx="360360" cy="277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826920" y="4941720"/>
            <a:ext cx="360360" cy="2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547560" y="1938240"/>
            <a:ext cx="80470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17360" y="2419200"/>
            <a:ext cx="89632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8:0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